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F1E6-8BF4-4DAD-9BAA-D44A01B27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5C2-E4AA-4441-B156-9D0828BAF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9A4-A5A8-4D38-993F-6EA887B5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A5D-0F27-4C95-A908-12656D4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5D1-EDEA-49ED-988B-56AF2EB9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ECE-F913-4AE4-AF4D-0A99E8C5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6527-9D20-4DF3-9D8C-F64B18F8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7515-0621-4EBD-BE64-57CFDFA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DC05-7C48-45AB-9D27-B201324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520F-5C8F-4629-BD3D-AFCC26C8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0E2-4304-4564-AC26-4A55E36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238E-7FA3-46F6-8BA9-B8730E4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56A-909E-464A-995A-FF641AD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C7A-445C-4E1C-ACB4-32DC32B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1BD9-D64C-4DFB-986A-15466B9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0756-1D1C-4ED0-8656-599BC22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26CF-D8EF-41C6-ADB2-80315A34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8ED7-9B4E-4DC4-AF37-CEF7FB9C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56D-1E49-4E56-A94A-22825F2C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5D8C-7E73-4A0D-BDF5-6AB9590E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BD5C-F646-40A9-BED2-865A6892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100D-38EB-4A94-894D-8BBDD41F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E973-EF30-4995-8AD8-C1122C3C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C9BE-F2F9-4944-9043-0AE2EB84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1B8-5FE5-46C9-B6D4-9676735F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B978-8A8F-4617-8068-085D80B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A1F2-062F-48C4-9D7F-D133790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7F97-4BEC-424F-B2F0-6F22F73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A62A-9F18-4079-8A25-3A846AD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0175-E018-4CA3-9317-3043126D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C28F-CF38-491C-B105-085142A0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6A22-3330-4B95-8DE4-CA719CF3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6579-13E3-4406-BDB1-6BC184F8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9F40-D8FB-4C2E-85F3-197A1632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CF9B-F49C-4194-80DD-8B38AB48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028-006F-4997-88C9-F674D69D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CB72-C1B1-45A0-B089-024CCF7E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01D8-61FE-46D4-AD4C-F2C6A4EF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8483-9D8D-4D37-8009-0999DE9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DF34-22AD-486A-8AC9-B4F7908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4113-2778-4129-8CFF-FFD9FB8A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834C-1DEF-4D99-B51A-56547AD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2EB3-BC3D-4DF1-9F7F-3CECF19E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F7D4-2F6A-4355-BA15-BEEB42D7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302E-0396-4090-A628-BAE7C175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448-5F26-4866-A940-E2747478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627-8CBD-4747-AD6F-A111766D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8DE-4673-4A1F-BDBA-F680B5B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C56-2173-4958-A9E7-53D5F5A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A39-6793-47AE-8D68-F3C95A1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A67-CC9B-4C15-A353-E18B0928F139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C3C0-DAB9-48A0-A191-278476C42117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A90-C1E9-4035-A4EA-75D759008CBD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8D7-0574-406A-9EF6-9FF6D3E00D57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2400" y="6858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ХАНС КРИСТИАН АНДЕРСЕН</a:t>
            </a:r>
            <a:br>
              <a:rPr sz="5000"/>
            </a:b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(1805-1875)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3" name="Picture 4" descr="F:\13 марта\анд.jpg"/>
          <p:cNvPicPr/>
          <p:nvPr/>
        </p:nvPicPr>
        <p:blipFill>
          <a:blip r:embed="rId1"/>
          <a:stretch/>
        </p:blipFill>
        <p:spPr>
          <a:xfrm>
            <a:off x="2743200" y="1905120"/>
            <a:ext cx="182880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1920" y="22860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ктёром Андерсен так и не ста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н много путешествова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стал знаменитым сказочни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ри его жизни сказки были переведен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 пятнадцать язык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осле смерти – едва ли не на все языки ми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 Кристиан Андерсен сочини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более ста семидесяти сказок, семьсот семьдесят стихотворени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шесть романо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множество пье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F:\13 марта\огниво.jpg"/>
          <p:cNvPicPr/>
          <p:nvPr/>
        </p:nvPicPr>
        <p:blipFill>
          <a:blip r:embed="rId1"/>
          <a:stretch/>
        </p:blipFill>
        <p:spPr>
          <a:xfrm>
            <a:off x="7238880" y="304920"/>
            <a:ext cx="1602000" cy="2271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F:\13 марта\г.ут.jpg"/>
          <p:cNvPicPr/>
          <p:nvPr/>
        </p:nvPicPr>
        <p:blipFill>
          <a:blip r:embed="rId2"/>
          <a:stretch/>
        </p:blipFill>
        <p:spPr>
          <a:xfrm>
            <a:off x="4648320" y="228600"/>
            <a:ext cx="170640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F:\13 марта\атик.jpg"/>
          <p:cNvPicPr/>
          <p:nvPr/>
        </p:nvPicPr>
        <p:blipFill>
          <a:blip r:embed="rId3"/>
          <a:stretch/>
        </p:blipFill>
        <p:spPr>
          <a:xfrm>
            <a:off x="7561440" y="4724280"/>
            <a:ext cx="158256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F:\13 марта\дюйм.jpg"/>
          <p:cNvPicPr/>
          <p:nvPr/>
        </p:nvPicPr>
        <p:blipFill>
          <a:blip r:embed="rId4"/>
          <a:stretch/>
        </p:blipFill>
        <p:spPr>
          <a:xfrm>
            <a:off x="4648320" y="4419720"/>
            <a:ext cx="1828800" cy="2260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F:\13 марта\лебеди.jpg"/>
          <p:cNvPicPr/>
          <p:nvPr/>
        </p:nvPicPr>
        <p:blipFill>
          <a:blip r:embed="rId5"/>
          <a:stretch/>
        </p:blipFill>
        <p:spPr>
          <a:xfrm>
            <a:off x="4572000" y="2514600"/>
            <a:ext cx="1766880" cy="198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F:\13 марта\принц.jpg"/>
          <p:cNvPicPr/>
          <p:nvPr/>
        </p:nvPicPr>
        <p:blipFill>
          <a:blip r:embed="rId6"/>
          <a:stretch/>
        </p:blipFill>
        <p:spPr>
          <a:xfrm>
            <a:off x="6400800" y="259092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13 марта\ко.jpg"/>
          <p:cNvPicPr/>
          <p:nvPr/>
        </p:nvPicPr>
        <p:blipFill>
          <a:blip r:embed="rId1"/>
          <a:stretch/>
        </p:blipFill>
        <p:spPr>
          <a:xfrm>
            <a:off x="1260360" y="685800"/>
            <a:ext cx="280692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F:\13 марта\копен.jpg"/>
          <p:cNvPicPr/>
          <p:nvPr/>
        </p:nvPicPr>
        <p:blipFill>
          <a:blip r:embed="rId2"/>
          <a:stretch/>
        </p:blipFill>
        <p:spPr>
          <a:xfrm>
            <a:off x="5181480" y="878040"/>
            <a:ext cx="259092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13 марта\копенг.jpg"/>
          <p:cNvPicPr/>
          <p:nvPr/>
        </p:nvPicPr>
        <p:blipFill>
          <a:blip r:embed="rId3"/>
          <a:stretch/>
        </p:blipFill>
        <p:spPr>
          <a:xfrm>
            <a:off x="1219320" y="3322800"/>
            <a:ext cx="3276360" cy="28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F:\13 марта\копе.jpg"/>
          <p:cNvPicPr/>
          <p:nvPr/>
        </p:nvPicPr>
        <p:blipFill>
          <a:blip r:embed="rId4"/>
          <a:stretch/>
        </p:blipFill>
        <p:spPr>
          <a:xfrm>
            <a:off x="5181480" y="3781440"/>
            <a:ext cx="2895840" cy="25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F:\13 марта\ол.солд.jpg"/>
          <p:cNvPicPr/>
          <p:nvPr/>
        </p:nvPicPr>
        <p:blipFill>
          <a:blip r:embed="rId5"/>
          <a:stretch/>
        </p:blipFill>
        <p:spPr>
          <a:xfrm>
            <a:off x="3705120" y="2514600"/>
            <a:ext cx="19335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66"/>
                </a:solidFill>
                <a:latin typeface="Calibri"/>
              </a:rPr>
              <a:t>4  августа 1875 года великого   сказочника не стало.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F:\Андерсен\569_PICT0414.jpg"/>
          <p:cNvPicPr/>
          <p:nvPr/>
        </p:nvPicPr>
        <p:blipFill>
          <a:blip r:embed="rId1"/>
          <a:stretch/>
        </p:blipFill>
        <p:spPr>
          <a:xfrm>
            <a:off x="228600" y="1447920"/>
            <a:ext cx="3983040" cy="48290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4" descr=""/>
          <p:cNvPicPr/>
          <p:nvPr/>
        </p:nvPicPr>
        <p:blipFill>
          <a:blip r:embed="rId2"/>
          <a:stretch/>
        </p:blipFill>
        <p:spPr>
          <a:xfrm>
            <a:off x="4346640" y="2133720"/>
            <a:ext cx="479736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51920"/>
            <a:ext cx="472464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7493d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еликому сказочни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его героям поставлены  памятники. А героиня сказки Х.К.Андерсена «Русалочка» стала символом столицы Дании – Копенга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чиная с 1967 год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о решению Международного совета по детской книг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2 апреля (в день рождения Ханса Кристиана Андерсена) отмечается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Bookman Old Style"/>
                <a:hlinkClick r:id="rId1" action="ppaction://hlinksldjump"/>
              </a:rPr>
              <a:t>Международный день детской книг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Русалочка"/>
          <p:cNvPicPr/>
          <p:nvPr/>
        </p:nvPicPr>
        <p:blipFill>
          <a:blip r:embed="rId2"/>
          <a:stretch/>
        </p:blipFill>
        <p:spPr>
          <a:xfrm>
            <a:off x="5410080" y="914400"/>
            <a:ext cx="3332160" cy="4433760"/>
          </a:xfrm>
          <a:prstGeom prst="rect">
            <a:avLst/>
          </a:prstGeom>
          <a:ln w="76320">
            <a:solidFill>
              <a:srgbClr val="87493d"/>
            </a:solidFill>
            <a:miter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ab0043"/>
                </a:solidFill>
                <a:latin typeface="Bookman Old Style"/>
              </a:rPr>
              <a:t>Дом Х.К. Андерсена в г.Копенгагене</a:t>
            </a:r>
            <a:endParaRPr b="0" lang="en-US" sz="5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2" name="Picture 5" descr="Дом Андерсенв в Копенгагене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57840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F:\13 марта\огниво.jpg"/>
          <p:cNvPicPr/>
          <p:nvPr/>
        </p:nvPicPr>
        <p:blipFill>
          <a:blip r:embed="rId1"/>
          <a:stretch/>
        </p:blipFill>
        <p:spPr>
          <a:xfrm>
            <a:off x="228600" y="304920"/>
            <a:ext cx="145728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F:\13 марта\св.пас.jpg"/>
          <p:cNvPicPr/>
          <p:nvPr/>
        </p:nvPicPr>
        <p:blipFill>
          <a:blip r:embed="rId2"/>
          <a:stretch/>
        </p:blipFill>
        <p:spPr>
          <a:xfrm>
            <a:off x="457200" y="2286000"/>
            <a:ext cx="1940040" cy="251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F:\13 марта\г.ут.jpg"/>
          <p:cNvPicPr/>
          <p:nvPr/>
        </p:nvPicPr>
        <p:blipFill>
          <a:blip r:embed="rId3"/>
          <a:stretch/>
        </p:blipFill>
        <p:spPr>
          <a:xfrm>
            <a:off x="2362320" y="0"/>
            <a:ext cx="1766880" cy="2057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F:\13 марта\атик.jpg"/>
          <p:cNvPicPr/>
          <p:nvPr/>
        </p:nvPicPr>
        <p:blipFill>
          <a:blip r:embed="rId4"/>
          <a:stretch/>
        </p:blipFill>
        <p:spPr>
          <a:xfrm>
            <a:off x="1752480" y="4191120"/>
            <a:ext cx="1690920" cy="2357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F:\13 марта\дюйм.jpg"/>
          <p:cNvPicPr/>
          <p:nvPr/>
        </p:nvPicPr>
        <p:blipFill>
          <a:blip r:embed="rId5"/>
          <a:stretch/>
        </p:blipFill>
        <p:spPr>
          <a:xfrm>
            <a:off x="4876920" y="0"/>
            <a:ext cx="1490400" cy="2152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F:\13 марта\дик.леб.jpg"/>
          <p:cNvPicPr/>
          <p:nvPr/>
        </p:nvPicPr>
        <p:blipFill>
          <a:blip r:embed="rId6"/>
          <a:stretch/>
        </p:blipFill>
        <p:spPr>
          <a:xfrm>
            <a:off x="2971800" y="205740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F:\13 марта\оле.jpg"/>
          <p:cNvPicPr/>
          <p:nvPr/>
        </p:nvPicPr>
        <p:blipFill>
          <a:blip r:embed="rId7"/>
          <a:stretch/>
        </p:blipFill>
        <p:spPr>
          <a:xfrm>
            <a:off x="7010280" y="228600"/>
            <a:ext cx="1852560" cy="217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F:\13 марта\рус.jpg"/>
          <p:cNvPicPr/>
          <p:nvPr/>
        </p:nvPicPr>
        <p:blipFill>
          <a:blip r:embed="rId8"/>
          <a:stretch/>
        </p:blipFill>
        <p:spPr>
          <a:xfrm>
            <a:off x="4114800" y="4114800"/>
            <a:ext cx="1809720" cy="228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:\13 марта\сн.кор.jpg"/>
          <p:cNvPicPr/>
          <p:nvPr/>
        </p:nvPicPr>
        <p:blipFill>
          <a:blip r:embed="rId9"/>
          <a:stretch/>
        </p:blipFill>
        <p:spPr>
          <a:xfrm>
            <a:off x="5562720" y="22096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F:\13 марта\принц.jpg"/>
          <p:cNvPicPr/>
          <p:nvPr/>
        </p:nvPicPr>
        <p:blipFill>
          <a:blip r:embed="rId10"/>
          <a:stretch/>
        </p:blipFill>
        <p:spPr>
          <a:xfrm>
            <a:off x="6705720" y="4038480"/>
            <a:ext cx="1676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 сказках  Х. К.Андерсена есть всё,</a:t>
            </a:r>
            <a:br>
              <a:rPr sz="3200"/>
            </a:b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что должно всегда жить в человек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уважение к мужеству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доброта и сочувствие всем, кому плохо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любовь к людя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презрение к чванливым и бессердечны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В память о великом сказочнике</a:t>
            </a:r>
            <a:endParaRPr b="0" lang="en-US" sz="4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2 апреля – международный день детской книг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Учреждена международная премия Андерсена за создание лучшей книги дл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Вручается золотая медал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с профилем  Андерсе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9" descr="Медаль"/>
          <p:cNvPicPr/>
          <p:nvPr/>
        </p:nvPicPr>
        <p:blipFill>
          <a:blip r:embed="rId1"/>
          <a:stretch/>
        </p:blipFill>
        <p:spPr>
          <a:xfrm>
            <a:off x="6629400" y="434340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F:\13 марта\анде.jpg"/>
          <p:cNvPicPr/>
          <p:nvPr/>
        </p:nvPicPr>
        <p:blipFill>
          <a:blip r:embed="rId1"/>
          <a:stretch/>
        </p:blipFill>
        <p:spPr>
          <a:xfrm>
            <a:off x="55440" y="1054080"/>
            <a:ext cx="3962520" cy="4829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032000" y="914040"/>
            <a:ext cx="5111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69"/>
                </a:solidFill>
                <a:latin typeface="Constantia"/>
              </a:rPr>
              <a:t>Великий датский сказочник, придумавший огромное количество замечательных сказочных истор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29000" y="8380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71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В Дании есть маленький остров </a:t>
            </a:r>
            <a:r>
              <a:rPr b="1" i="1" lang="ru-RU" sz="2400" spc="-1" strike="noStrike" u="sng">
                <a:solidFill>
                  <a:srgbClr val="4c99ff"/>
                </a:solidFill>
                <a:uFillTx/>
                <a:latin typeface="Bookman Old Style"/>
              </a:rPr>
              <a:t>Фюн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, а на нем город </a:t>
            </a:r>
            <a:r>
              <a:rPr b="1" i="1" lang="ru-RU" sz="2400" spc="-1" strike="noStrike" u="sng">
                <a:solidFill>
                  <a:srgbClr val="4c99ff"/>
                </a:solidFill>
                <a:uFillTx/>
                <a:latin typeface="Bookman Old Style"/>
              </a:rPr>
              <a:t>Оденсе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. 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Здесь 2 апреля 1805 года и родился будущий знаменитый сказочник. Семья жила на самой окраине, возле реки, и была очень бедна. Отец был башмачником. Мать была прачкой. Ханс учился в школе для бедных. Там преподавали письмо, арифметику и Закон Бож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андерсен"/>
          <p:cNvPicPr/>
          <p:nvPr/>
        </p:nvPicPr>
        <p:blipFill>
          <a:blip r:embed="rId1"/>
          <a:stretch/>
        </p:blipFill>
        <p:spPr>
          <a:xfrm>
            <a:off x="-6480" y="1152360"/>
            <a:ext cx="3517920" cy="4260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Bookman Old Style"/>
              </a:rPr>
              <a:t>Город Оденсе.  Дом, в котором родился писатель. </a:t>
            </a:r>
            <a:br>
              <a:rPr sz="2800"/>
            </a:b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1" name="Picture 4" descr="Дом"/>
          <p:cNvPicPr/>
          <p:nvPr/>
        </p:nvPicPr>
        <p:blipFill>
          <a:blip r:embed="rId1"/>
          <a:stretch/>
        </p:blipFill>
        <p:spPr>
          <a:xfrm>
            <a:off x="2133720" y="2209680"/>
            <a:ext cx="5130720" cy="3962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есмотря на то, что семья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была бедной, у маленьк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а не было недостатка 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грушках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Чего только  не делал ему отец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картинки с превращения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двигающиеся мельниц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 кивающие головами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самодельные куклы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 какие  интересные сказ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рассказывал мальчику отец –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споминал те, что слышал  в детств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ересказывал и читал кни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100"/>
          <p:cNvPicPr/>
          <p:nvPr/>
        </p:nvPicPr>
        <p:blipFill>
          <a:blip r:embed="rId1"/>
          <a:stretch/>
        </p:blipFill>
        <p:spPr>
          <a:xfrm>
            <a:off x="6426360" y="0"/>
            <a:ext cx="24904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 и са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чал придумывать сказк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о рассказывать их взрослым стеснял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ервые сказки Андерсена слушал только</a:t>
            </a:r>
            <a:r>
              <a:rPr b="1" i="1" lang="en-US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старый домашний ко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тец Андерсена всегда мечт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 путешествиях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о так нигде и не побыва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 мальчик придумывает сказ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 китайском принц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который пророет весь земной шар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ылезет прямо в Оденс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заберет его с собой в Кита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101"/>
          <p:cNvPicPr/>
          <p:nvPr/>
        </p:nvPicPr>
        <p:blipFill>
          <a:blip r:embed="rId1"/>
          <a:stretch/>
        </p:blipFill>
        <p:spPr>
          <a:xfrm>
            <a:off x="6781680" y="2209680"/>
            <a:ext cx="16765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Обладавший красивым певучим голосом, Андерсен с детства был вхож во многие богатые дома Оденсе. Ханс Кристиан развлекал хозяев пением и чтением, за что получил прозвище «маленький соловей с острова Фюн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В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Bookman Old Style"/>
                <a:hlinkClick r:id="rId1" action="ppaction://hlinksldjump"/>
              </a:rPr>
              <a:t>провинциальном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датском городке Оденсе был и теат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bbfd"/>
                </a:solidFill>
                <a:uFillTx/>
                <a:latin typeface="Bookman Old Style"/>
                <a:hlinkClick r:id="rId2" action="ppaction://hlinksldjump"/>
              </a:rPr>
              <a:t>Гастроли труппы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Королевского театра Копенгагена сыграли, решающую роль в выборе пути,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который определил для себ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юный Ханс Кристиан Андерсен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7493d"/>
                </a:solidFill>
                <a:latin typeface="Bookman Old Styl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F:\13 марта\од.театор.jpg"/>
          <p:cNvPicPr/>
          <p:nvPr/>
        </p:nvPicPr>
        <p:blipFill>
          <a:blip r:embed="rId3"/>
          <a:stretch/>
        </p:blipFill>
        <p:spPr>
          <a:xfrm>
            <a:off x="4761000" y="1176480"/>
            <a:ext cx="4017960" cy="31762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6"/>
          <p:cNvSpPr/>
          <p:nvPr/>
        </p:nvSpPr>
        <p:spPr>
          <a:xfrm>
            <a:off x="4572000" y="4572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8007f"/>
                </a:solidFill>
                <a:latin typeface="Arial"/>
              </a:rPr>
              <a:t>Театр в Оден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352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 1814 году умер отец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есёлое детство Андерсена закончи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Одиннадцатилетнем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Хансу Кристиан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пришлось бросить школ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и устроиться работа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на фабрик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 14 лет Ханс отправился в Копенгаген. Город показался ему великаном. Мечта Андерсена – стать актёром.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Копенгаген"/>
          <p:cNvPicPr/>
          <p:nvPr/>
        </p:nvPicPr>
        <p:blipFill>
          <a:blip r:embed="rId2"/>
          <a:stretch/>
        </p:blipFill>
        <p:spPr>
          <a:xfrm>
            <a:off x="1066680" y="2057400"/>
            <a:ext cx="7229520" cy="4363920"/>
          </a:xfrm>
          <a:prstGeom prst="rect">
            <a:avLst/>
          </a:prstGeom>
          <a:ln w="38160">
            <a:solidFill>
              <a:srgbClr val="17bbfd"/>
            </a:solidFill>
            <a:miter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чальная</dc:creator>
  <dc:description/>
  <dc:language>en-US</dc:language>
  <cp:lastModifiedBy>Начальная</cp:lastModifiedBy>
  <dcterms:modified xsi:type="dcterms:W3CDTF">2020-05-15T19:24:15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